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8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0BB-D01A-4829-A715-C91DB15D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3C0-C0B9-4EE6-A27D-930D68B3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26B-00C4-4417-A7A8-19C0DB8B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056-AC2F-457B-9539-488C948B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ED04-899D-455A-B03D-D145F9C2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6B9A-989A-4399-8540-EA0EE0F9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F314-51BC-444D-BB9C-4201770E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C2FB-0B7B-4F64-880E-C588F51E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7ECA-2117-4EEB-B4A6-0A7665B1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E496-0791-40E2-93DA-C2638133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149B-E31D-4E97-AF4A-5DCC0F3A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9BE-07BB-4FDF-9A28-FCD66A35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56F0-F7EA-4994-A789-444DE1EF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DC43-5C8A-4454-BDD3-F928E3B2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1DC7-4598-4BF5-B7B1-B3028860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F615-CA97-4E63-9801-2A58F50C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705A-F064-4244-A257-39076709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5DE7C-E67F-497C-A0F0-53CC37E1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154B4-9159-4789-9B42-FE967B25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B1BB4-AFF7-4475-B4E3-85E3CEE9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B655-5B93-4989-9251-7B42E20F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A4BD-0224-4C21-B8BA-6BEC0564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7D7-469E-45BC-9750-93DDB765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0A691-6EFD-4170-A64F-415E6D77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78961-FC2B-4C8F-AF17-B9607B1C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2F9D6-0B2A-42C3-A827-B2AD8956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EEF82-FE62-4159-88B0-0D841522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5D10-F25A-4A45-B48F-295C6219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A20A8-E329-45C9-B53A-F97D03B6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FF687-A7C2-4223-B0E6-DDFB5176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72B16-60A0-40A6-9C3B-F8881DE4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FB210-1A53-4323-A807-B133AD37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0C446-7952-4AE4-A35F-421DF1EC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465-B73E-4557-9BD0-4B6D2953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7C229-7BF2-44C2-BBE0-E0FFD08B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184A0-B3F7-4E95-A2BA-F6635953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BA372-8823-43C6-905E-2C1E8D96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417A3-F649-4824-8755-154802BF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07375-3207-4201-91AB-7001BF88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C980A-FC61-4608-9049-34302C51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C125D-56F9-45AC-A493-82F08737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A081F-00BE-412B-BDE3-192DB0A2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85CEC-7FFD-44D8-8D0B-68B05DA7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E83D4-B34F-4704-9537-94C5F923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4FA-0327-4456-B152-D597605D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627E5-72FB-4FB5-BCD5-22763130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60430-F322-43F4-97B8-F3EAF331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5DFAD-4A6F-421F-AC76-7C7FD222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3E7C3-1F07-445D-A237-81A5C58E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6E411-17C6-47DE-8C05-5E2F6714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41C0B-049C-47BD-98AD-ED0DEE61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181A6-E242-4D8A-95D8-A6868AF2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0E806-0ED4-4D7C-B44D-C4A45E60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45CD7-979B-4010-A229-9A989AB1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C9C1C-3DE3-487B-A0D7-8293EFAE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C3B-F556-48E1-8405-7F08856C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0B492-2FBD-497E-938F-4C4150C4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31533-D08B-4F07-B7E7-D263E7AC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0EFFB-1670-4117-96E1-A9F422AF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EF6DF-D3EF-44FF-9AC9-1A6D8302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01CFC-7C4D-4FA1-9C43-FC4B1085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6C28A-7214-4177-949E-07BF7C0D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17C15-B9EC-4B15-93EC-99B6C2F5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72715-F986-4843-82D3-AF7F2FA0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457A8-5452-447E-B9E0-C7498B54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411D4-D1FC-425E-B171-0A71FB7A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F27-50C5-4250-8694-4BA6AB1D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65F2D-0432-4E13-B0C7-9CE2346D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73E43-0726-420F-A09C-2050EBD5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44BA1-DE99-44BC-8711-67D66D20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227FF-F567-4F8A-B712-37A7BFB2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818CE-B9CA-46DB-9D2A-865CFEA5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54430-DFA7-4C50-8EEB-BCD6424D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067D6-78E5-42D4-B51B-EEECCF63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E0088-66B0-446F-91A4-1D2473D5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30EE7-1543-4469-AE3E-29BCA7EE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5DEB3-0ED5-4235-BFA4-8AB2AED7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567-3200-45C2-B07C-C0509154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C5FAA-882E-418F-98DF-5A41428E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2DCB3-15EB-49AC-9292-312FF313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F91EC-8326-4519-9DF6-A3C44864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DF4D6-1DB6-46E7-AB98-5D29E4FC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8BD63-6F2F-4442-AD35-4FC6920D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089-3921-46E2-952B-29DCE025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5029-2292-48A7-A092-A94C75FCEA96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7BE2-E2FC-4B74-A7AD-52085CAA7551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8A3B-83A1-4EDF-9792-B92020909768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6610-5E90-4A04-9998-94132322F606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8FD8-4D12-4E88-9730-0773039DAB5F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0B26-2529-44C8-83B6-1821D377C540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1872-6417-427F-94BE-BEB66B5479D2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3143"/>
                </a:solidFill>
                <a:latin typeface="Cooper Black"/>
              </a:rPr>
              <a:t>Challenge 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7fd13b"/>
                </a:solidFill>
                <a:latin typeface="Cooper Black"/>
              </a:rPr>
              <a:t>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7fd13b"/>
              </a:solidFill>
              <a:latin typeface="Cooper Black"/>
              <a:ea typeface="Cooper Black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322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addc"/>
                </a:solidFill>
                <a:latin typeface="Cooper Black"/>
              </a:rPr>
              <a:t>Equipmen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addc"/>
              </a:solidFill>
              <a:latin typeface="Cooper Black"/>
              <a:ea typeface="Cooper Black"/>
            </a:endParaRPr>
          </a:p>
        </p:txBody>
      </p:sp>
      <p:pic>
        <p:nvPicPr>
          <p:cNvPr id="323" name="Picture 7" descr="C:\Documents and Settings\Liz\Local Settings\Temporary Internet Files\Content.IE5\MB5MZXEX\MCj04110470000[1].wmf"/>
          <p:cNvPicPr/>
          <p:nvPr/>
        </p:nvPicPr>
        <p:blipFill>
          <a:blip r:embed="rId2"/>
          <a:stretch/>
        </p:blipFill>
        <p:spPr>
          <a:xfrm>
            <a:off x="533520" y="3429000"/>
            <a:ext cx="26668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182160"/>
            <a:ext cx="78674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Briefly describe how you would use these objects to heat the contents of a test tube. </a:t>
            </a:r>
            <a:endParaRPr b="0" lang="en-US" sz="32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5" name="Picture 12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3429000" cy="249696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12" descr=""/>
          <p:cNvPicPr/>
          <p:nvPr/>
        </p:nvPicPr>
        <p:blipFill>
          <a:blip r:embed="rId2"/>
          <a:stretch/>
        </p:blipFill>
        <p:spPr>
          <a:xfrm>
            <a:off x="1700280" y="3164040"/>
            <a:ext cx="969840" cy="82836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13" descr=""/>
          <p:cNvPicPr/>
          <p:nvPr/>
        </p:nvPicPr>
        <p:blipFill>
          <a:blip r:embed="rId3"/>
          <a:stretch/>
        </p:blipFill>
        <p:spPr>
          <a:xfrm>
            <a:off x="4505400" y="2938320"/>
            <a:ext cx="987480" cy="82260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14" descr=""/>
          <p:cNvPicPr/>
          <p:nvPr/>
        </p:nvPicPr>
        <p:blipFill>
          <a:blip r:embed="rId4"/>
          <a:stretch/>
        </p:blipFill>
        <p:spPr>
          <a:xfrm>
            <a:off x="6943680" y="2706840"/>
            <a:ext cx="987480" cy="82836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15" descr=""/>
          <p:cNvPicPr/>
          <p:nvPr/>
        </p:nvPicPr>
        <p:blipFill>
          <a:blip r:embed="rId5"/>
          <a:stretch/>
        </p:blipFill>
        <p:spPr>
          <a:xfrm>
            <a:off x="1384200" y="5834160"/>
            <a:ext cx="987480" cy="82224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16" descr=""/>
          <p:cNvPicPr/>
          <p:nvPr/>
        </p:nvPicPr>
        <p:blipFill>
          <a:blip r:embed="rId6"/>
          <a:stretch/>
        </p:blipFill>
        <p:spPr>
          <a:xfrm>
            <a:off x="4584600" y="5834160"/>
            <a:ext cx="957240" cy="82224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17" descr=""/>
          <p:cNvPicPr/>
          <p:nvPr/>
        </p:nvPicPr>
        <p:blipFill>
          <a:blip r:embed="rId7"/>
          <a:stretch/>
        </p:blipFill>
        <p:spPr>
          <a:xfrm>
            <a:off x="7480440" y="5602320"/>
            <a:ext cx="931680" cy="828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7" descr="C:\Documents and Settings\Liz\Local Settings\Temporary Internet Files\Content.IE5\MB5MZXEX\MCj03402640000[1].wmf"/>
          <p:cNvPicPr/>
          <p:nvPr/>
        </p:nvPicPr>
        <p:blipFill>
          <a:blip r:embed="rId8"/>
          <a:stretch/>
        </p:blipFill>
        <p:spPr>
          <a:xfrm>
            <a:off x="1066680" y="4267080"/>
            <a:ext cx="2349720" cy="1403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http://www.columbia.edu/itc/chemistry/chem-cf1500/labpix/images/testtubeholder.jpg"/>
          <p:cNvPicPr/>
          <p:nvPr/>
        </p:nvPicPr>
        <p:blipFill>
          <a:blip r:embed="rId9"/>
          <a:stretch/>
        </p:blipFill>
        <p:spPr>
          <a:xfrm rot="20260200">
            <a:off x="6345360" y="1374480"/>
            <a:ext cx="2209680" cy="944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8" descr="alcohol lamp"/>
          <p:cNvPicPr/>
          <p:nvPr/>
        </p:nvPicPr>
        <p:blipFill>
          <a:blip r:embed="rId10"/>
          <a:stretch/>
        </p:blipFill>
        <p:spPr>
          <a:xfrm>
            <a:off x="4267080" y="1066680"/>
            <a:ext cx="1371600" cy="1922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1" descr="C:\Documents and Settings\Liz\Local Settings\Temporary Internet Files\Content.IE5\2YJ6FFAG\MCj03303180000[1].wmf"/>
          <p:cNvPicPr/>
          <p:nvPr/>
        </p:nvPicPr>
        <p:blipFill>
          <a:blip r:embed="rId11"/>
          <a:stretch/>
        </p:blipFill>
        <p:spPr>
          <a:xfrm>
            <a:off x="7086600" y="3619440"/>
            <a:ext cx="1601640" cy="2003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2" descr="C:\Documents and Settings\Liz\Local Settings\Temporary Internet Files\Content.IE5\ASWPFQJ8\MCj03711440000[1].wmf"/>
          <p:cNvPicPr/>
          <p:nvPr/>
        </p:nvPicPr>
        <p:blipFill>
          <a:blip r:embed="rId12"/>
          <a:stretch/>
        </p:blipFill>
        <p:spPr>
          <a:xfrm>
            <a:off x="1371600" y="1371600"/>
            <a:ext cx="17413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2" descr=""/>
          <p:cNvPicPr/>
          <p:nvPr/>
        </p:nvPicPr>
        <p:blipFill>
          <a:blip r:embed="rId1"/>
          <a:stretch/>
        </p:blipFill>
        <p:spPr>
          <a:xfrm>
            <a:off x="5867280" y="4419720"/>
            <a:ext cx="1649520" cy="1201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C:\Documents and Settings\Liz\Local Settings\Temporary Internet Files\Content.IE5\MB5MZXEX\MCj03402640000[1].wmf"/>
          <p:cNvPicPr/>
          <p:nvPr/>
        </p:nvPicPr>
        <p:blipFill>
          <a:blip r:embed="rId2"/>
          <a:stretch/>
        </p:blipFill>
        <p:spPr>
          <a:xfrm>
            <a:off x="7862760" y="1066680"/>
            <a:ext cx="1128960" cy="674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http://www.columbia.edu/itc/chemistry/chem-cf1500/labpix/images/testtubeholder.jpg"/>
          <p:cNvPicPr/>
          <p:nvPr/>
        </p:nvPicPr>
        <p:blipFill>
          <a:blip r:embed="rId3"/>
          <a:stretch/>
        </p:blipFill>
        <p:spPr>
          <a:xfrm rot="20260200">
            <a:off x="7634160" y="4443480"/>
            <a:ext cx="1446480" cy="617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8" descr="alcohol lamp"/>
          <p:cNvPicPr/>
          <p:nvPr/>
        </p:nvPicPr>
        <p:blipFill>
          <a:blip r:embed="rId4"/>
          <a:stretch/>
        </p:blipFill>
        <p:spPr>
          <a:xfrm>
            <a:off x="7315200" y="2971800"/>
            <a:ext cx="795240" cy="1114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1" descr="C:\Documents and Settings\Liz\Local Settings\Temporary Internet Files\Content.IE5\2YJ6FFAG\MCj03303180000[1].wmf"/>
          <p:cNvPicPr/>
          <p:nvPr/>
        </p:nvPicPr>
        <p:blipFill>
          <a:blip r:embed="rId5"/>
          <a:stretch/>
        </p:blipFill>
        <p:spPr>
          <a:xfrm>
            <a:off x="6400800" y="2819520"/>
            <a:ext cx="990720" cy="12380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2" descr="C:\Documents and Settings\Liz\Local Settings\Temporary Internet Files\Content.IE5\ASWPFQJ8\MCj03711440000[1].wmf"/>
          <p:cNvPicPr/>
          <p:nvPr/>
        </p:nvPicPr>
        <p:blipFill>
          <a:blip r:embed="rId6"/>
          <a:stretch/>
        </p:blipFill>
        <p:spPr>
          <a:xfrm>
            <a:off x="7848720" y="1981080"/>
            <a:ext cx="955440" cy="1111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82160"/>
            <a:ext cx="78674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Briefly describe how you would use these objects to heat the contents of a test tube. </a:t>
            </a:r>
            <a:endParaRPr b="0" lang="en-US" sz="32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4" name="TextBox 20"/>
          <p:cNvSpPr/>
          <p:nvPr/>
        </p:nvSpPr>
        <p:spPr>
          <a:xfrm>
            <a:off x="990720" y="13716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put on safety goggles and lab apron.  Tie back long hair and check your shirt slee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1"/>
          <p:cNvSpPr/>
          <p:nvPr/>
        </p:nvSpPr>
        <p:spPr>
          <a:xfrm>
            <a:off x="990720" y="2743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, light alcohol burner with m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2"/>
          <p:cNvSpPr/>
          <p:nvPr/>
        </p:nvSpPr>
        <p:spPr>
          <a:xfrm>
            <a:off x="990720" y="4114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, remove test tube from rack and hold test tube with test tube cla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3"/>
          <p:cNvSpPr/>
          <p:nvPr/>
        </p:nvSpPr>
        <p:spPr>
          <a:xfrm>
            <a:off x="990720" y="5562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ly,  when heating test tube, hold with clamp, place bottom of test tube over flame, an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ning away from your 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8" descr="alcohol lamp"/>
          <p:cNvPicPr/>
          <p:nvPr/>
        </p:nvPicPr>
        <p:blipFill>
          <a:blip r:embed="rId7"/>
          <a:stretch/>
        </p:blipFill>
        <p:spPr>
          <a:xfrm>
            <a:off x="8043840" y="5562720"/>
            <a:ext cx="7952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Liz</cp:lastModifiedBy>
  <dcterms:modified xsi:type="dcterms:W3CDTF">2008-08-16T04:24:16Z</dcterms:modified>
  <cp:revision>139</cp:revision>
  <dc:subject/>
  <dc:title>Slide 1</dc:title>
</cp:coreProperties>
</file>